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3.jpeg" ContentType="image/jpeg"/>
  <Override PartName="/ppt/media/image6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34.wmf" ContentType="image/x-wmf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1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0D6C6-7342-47E3-8FF6-759CF472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24FB-3B3D-4392-BC87-C9838776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CDAD-35CB-45C4-9D6D-606B580E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443B-6A90-436E-9757-C89CA850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0859-00F9-4A54-8C71-307C08F4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4C92-E807-4B15-B636-8F0ECCC3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6DD7-C1D0-4EF7-A9A2-29112E23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3AAB-08E7-4034-9D38-A619F18C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8ADE-F835-4D85-BFFC-2C390DEF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9EEA-05C3-4517-B7DD-4C6BF9E8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ADBC-E7A8-40CA-8D6A-66E4F3C0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DB2A-E70F-41E0-87D4-FACAC94B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DE81-057F-4B49-9E03-DE9C39A3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5D96-F7F0-4E26-BBE5-32F7F226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9C84-AB77-4636-A1B6-423B52F0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6F33-C892-461B-A056-2251318A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3124-61F5-4CE6-BA69-961A80AB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22EE-4EC6-4B59-BD7D-35A12FD0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02C7-EFEA-4B19-B582-E4055F8D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E260-C8D0-4CDF-A8A5-EC74B2DF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28D9-58CC-4930-BB9F-3B8F168B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5D600-EA05-49DE-9635-5E3D821B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45B7-F70B-4AD7-A473-F861B115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F53D-6C39-46AD-BF04-E22FB9A3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DEB1-51B6-4957-A8C3-BBF4F1FD0F9F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623B-C3E6-4792-8D6B-269C9646E9D7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2.jpeg"/><Relationship Id="rId3" Type="http://schemas.openxmlformats.org/officeDocument/2006/relationships/image" Target="../media/image52.jpeg"/><Relationship Id="rId4" Type="http://schemas.openxmlformats.org/officeDocument/2006/relationships/image" Target="../media/image52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中國國徽"/>
          <p:cNvPicPr/>
          <p:nvPr/>
        </p:nvPicPr>
        <p:blipFill>
          <a:blip r:embed="rId1"/>
          <a:stretch/>
        </p:blipFill>
        <p:spPr>
          <a:xfrm>
            <a:off x="2362320" y="2006640"/>
            <a:ext cx="4419360" cy="40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52280" y="1219320"/>
            <a:ext cx="899172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祖国我拿什么回报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772080" cy="5410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343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05120" y="61722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1997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日香港回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3400560" cy="4762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86200" y="609480"/>
            <a:ext cx="5029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76520" y="5867280"/>
            <a:ext cx="5486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999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澳门回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96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61016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0" y="3276720"/>
              <a:ext cx="4572000" cy="358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 txBox="1"/>
          <p:nvPr/>
        </p:nvSpPr>
        <p:spPr>
          <a:xfrm>
            <a:off x="380880" y="4724280"/>
            <a:ext cx="39625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2e2eb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2e2eb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中国正式加入世界贸易组织</a:t>
            </a:r>
            <a:endParaRPr b="0" lang="en-US" sz="7200" spc="1" strike="noStrike">
              <a:ln w="9360">
                <a:solidFill>
                  <a:srgbClr val="2e2eb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2e2eb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657600"/>
            <a:ext cx="2743200" cy="990720"/>
          </a:xfrm>
          <a:prstGeom prst="cloudCallout">
            <a:avLst>
              <a:gd name="adj1" fmla="val -67074"/>
              <a:gd name="adj2" fmla="val 1192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1\12\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5029200"/>
            <a:ext cx="3809880" cy="1828800"/>
          </a:xfrm>
          <a:prstGeom prst="sun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北京申奥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中国人的骄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0" y="380880"/>
              <a:ext cx="3733920" cy="46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3733920" y="3314880"/>
              <a:ext cx="5410080" cy="35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3733920" y="0"/>
              <a:ext cx="541008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0" y="0"/>
              <a:ext cx="9144000" cy="642600"/>
            </a:xfrm>
            <a:prstGeom prst="rect">
              <a:avLst/>
            </a:prstGeom>
            <a:solidFill>
              <a:srgbClr val="ff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99"/>
                  </a:solidFill>
                  <a:latin typeface="Times New Roman"/>
                </a:rPr>
                <a:t>             </a:t>
              </a:r>
              <a:r>
                <a:rPr b="1" lang="zh-CN" sz="3600" spc="-1" strike="noStrike">
                  <a:solidFill>
                    <a:srgbClr val="ffff99"/>
                  </a:solidFill>
                  <a:latin typeface="Times New Roman"/>
                </a:rPr>
                <a:t>2001</a:t>
              </a:r>
              <a:r>
                <a:rPr b="1" lang="zh-CN" sz="3600" spc="-1" strike="noStrike">
                  <a:solidFill>
                    <a:srgbClr val="ffff99"/>
                  </a:solidFill>
                  <a:latin typeface="Times New Roman"/>
                </a:rPr>
                <a:t>年</a:t>
              </a:r>
              <a:r>
                <a:rPr b="1" lang="zh-CN" sz="3600" spc="-1" strike="noStrike">
                  <a:solidFill>
                    <a:srgbClr val="ffff99"/>
                  </a:solidFill>
                  <a:latin typeface="Times New Roman"/>
                </a:rPr>
                <a:t>7</a:t>
              </a:r>
              <a:r>
                <a:rPr b="1" lang="zh-CN" sz="3600" spc="-1" strike="noStrike">
                  <a:solidFill>
                    <a:srgbClr val="ffff99"/>
                  </a:solidFill>
                  <a:latin typeface="Times New Roman"/>
                </a:rPr>
                <a:t>月</a:t>
              </a:r>
              <a:r>
                <a:rPr b="1" lang="zh-CN" sz="3600" spc="-1" strike="noStrike">
                  <a:solidFill>
                    <a:srgbClr val="ffff99"/>
                  </a:solidFill>
                  <a:latin typeface="Times New Roman"/>
                </a:rPr>
                <a:t>13</a:t>
              </a:r>
              <a:r>
                <a:rPr b="1" lang="zh-CN" sz="3600" spc="-1" strike="noStrike">
                  <a:solidFill>
                    <a:srgbClr val="ffff99"/>
                  </a:solidFill>
                  <a:latin typeface="Times New Roman"/>
                </a:rPr>
                <a:t>日北京申奥成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981080" y="6094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创造世界奇迹的青藏铁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54100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美国有一位旅行家叫保罗，他曾经说过：“有昆仑山在，铁路就永远到不了拉萨。”然而，勤劳勇敢的中国人把“不可能” 变成了现实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104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7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，中国成为联合国安理会常任理事国。安理会是联合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主要组织机构之一。安理会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常任理事国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非常任理事国组成。     联合国宪章规定，中国、法国、苏联、英国、美国为常任理事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772400" cy="4000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38080" y="480060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新中国重返联合国后一共动用了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次一票否决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981240" cy="3314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7315200" cy="2286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57200" y="533520"/>
            <a:ext cx="4038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刘翔是中国运动员的骄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在雅典奥运会上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成绩平了由英国名将科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杰克逊保持的世界纪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专家认为黄种人的奔跑速度极限是不会超过黑人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是在这样的背景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刘翔凭借他的实力改写了亚洲人黄种人的历史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142920" y="-22860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456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0720" y="10666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中国成立之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美国国务卿艾奇逊暗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国政府解决不了自己的粮食问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国将永远是天下大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有靠美国的面粉才有出路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38862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的可耕地占世界比例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%,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养活世界人口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%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国正好反个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 2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世界可耕地养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世界人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.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均相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5759280"/>
            <a:ext cx="373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905120" y="1981080"/>
            <a:ext cx="54864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中华的风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来，中国一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足额、及时、无条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履行对联合国的财政义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会费比额已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0.995%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升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053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每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美元，居世界第九位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在发展中国家名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第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联合国催缴美国拖欠费用  ，欠款总额突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美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457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维护和平、促进发展、推动合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每年还向相关联合国机构提供捐款，并热情响应联合国在救灾和人道救援等活动的紧急呼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印度洋地区发生海啸灾难后，中国向灾区捐款共计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民币援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最近还向新成立的联合国中央应急基金认捐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美元，并承诺向建设和平基金捐款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美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6324480" cy="6200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83840" y="533520"/>
            <a:ext cx="115524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累计已免除非洲国家欠华债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381880" cy="5257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410080" y="5759280"/>
            <a:ext cx="373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209680" y="1981080"/>
            <a:ext cx="5105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中华的速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80880" y="3504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  “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三天一层楼” ，这是当时人们对深圳速度的一种描述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8380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破旧的小渔村瞬间成为现代化的大都市特区成为奇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2340000" y="2392200"/>
          <a:ext cx="4465440" cy="127980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12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                  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1904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29200" y="3276720"/>
            <a:ext cx="3962520" cy="3581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4114800" cy="3581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0" y="380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深    圳    速   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533520" y="1600200"/>
            <a:ext cx="80769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(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）我们一起见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         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中华的风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4920" y="380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峡工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468360" y="549360"/>
          <a:ext cx="11268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11268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050920" y="5445000"/>
            <a:ext cx="216000" cy="216000"/>
          </a:xfrm>
          <a:prstGeom prst="ellipse">
            <a:avLst/>
          </a:prstGeom>
          <a:gradFill rotWithShape="0">
            <a:gsLst>
              <a:gs pos="0">
                <a:srgbClr val="d91703"/>
              </a:gs>
              <a:gs pos="100000">
                <a:srgbClr val="640a0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11111E-006 -0.00023 C 0.02552 -0.0118 0.0092 -0.00555 0.06667 -0.00023 C 0.075 0.00047 0.09063 0.00949 0.09063 0.00972 C 0.09913 0.00185 0.10781 0.00232 0.11667 -0.00347 C 0.12517 -0.00903 0.12865 -0.0162 0.13577 -0.02592 C 0.14028 -0.03217 0.14844 -0.02778 0.15486 -0.02916 C 0.16806 -0.03171 0.17969 -0.03634 0.19288 -0.03866 C 0.19375 -0.04606 0.19254 -0.05463 0.19531 -0.06111 C 0.19705 -0.06528 0.20174 -0.06528 0.20486 -0.06782 C 0.21215 -0.07338 0.21927 -0.07754 0.22622 -0.08356 C 0.23229 -0.10833 0.22344 -0.07916 0.23577 -0.09977 C 0.23733 -0.10231 0.23663 -0.10671 0.23837 -0.10949 C 0.25347 -0.13657 0.25556 -0.12616 0.28594 -0.1287 C 0.29306 -0.15741 0.28316 -0.11643 0.2908 -0.15116 C 0.29219 -0.15764 0.29549 -0.1706 0.29549 -0.17037 C 0.29636 -0.18009 0.29653 -0.19004 0.29792 -0.19953 C 0.3 -0.21366 0.30538 -0.22685 0.30747 -0.2412 C 0.30833 -0.24745 0.30833 -0.25416 0.30972 -0.26065 C 0.31302 -0.27546 0.32049 -0.28773 0.32413 -0.30231 C 0.3257 -0.32268 0.32413 -0.34398 0.32882 -0.36342 C 0.33038 -0.36967 0.32934 -0.37893 0.33351 -0.38264 C 0.33594 -0.38472 0.33837 -0.3868 0.3408 -0.38889 C 0.34705 -0.41574 0.3382 -0.3831 0.34792 -0.40509 C 0.35017 -0.41018 0.34913 -0.41921 0.35504 -0.42106 C 0.36354 -0.42361 0.37257 -0.42315 0.38125 -0.4243 C 0.39913 -0.43264 0.37604 -0.41875 0.3908 -0.44699 C 0.39254 -0.45046 0.39705 -0.44907 0.40017 -0.45023 C 0.40104 -0.47801 0.39636 -0.50717 0.40261 -0.53356 C 0.40434 -0.54074 0.41389 -0.53217 0.41927 -0.53055 C 0.46649 -0.51574 0.40104 -0.53078 0.44792 -0.52083 C 0.45833 -0.51597 0.4658 -0.51111 0.47656 -0.51111 E">
                                      <p:cBhvr>
                                        <p:cTn id="75" dur="3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600200" y="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改革开放——强国之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990720" y="3352680"/>
            <a:ext cx="3352680" cy="2971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3352680" cy="2266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952880" y="990720"/>
            <a:ext cx="3276720" cy="228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4952880" y="3429000"/>
            <a:ext cx="3276720" cy="2743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-544320" y="1219320"/>
            <a:ext cx="1277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科 技 迅 猛 发 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752480" y="15228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改革开放——强国之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3505320" cy="2616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191120" y="838080"/>
            <a:ext cx="3504960" cy="2590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191120" y="3657600"/>
            <a:ext cx="3504960" cy="259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0" y="3733920"/>
            <a:ext cx="3505320" cy="2441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866360" y="1371600"/>
            <a:ext cx="1277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 民 生 活 明 显 改 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38280" y="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改革开放——强国之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3962520" cy="3048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4114800" cy="2816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638680" y="1981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防力量强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447920" y="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改革开放——强国之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434340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4724280" cy="3765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371600" y="1676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农业大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5715000" y="1447920"/>
            <a:ext cx="2742840" cy="4345920"/>
            <a:chOff x="5715000" y="1447920"/>
            <a:chExt cx="2742840" cy="434592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5715000" y="1447920"/>
              <a:ext cx="274284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130800" y="5334120"/>
              <a:ext cx="22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33"/>
                  </a:solidFill>
                  <a:latin typeface="Times New Roman"/>
                  <a:ea typeface="楷体_GB2312"/>
                </a:rPr>
                <a:t>上海南浦大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7200" y="1447920"/>
            <a:ext cx="2819160" cy="4814280"/>
            <a:chOff x="457200" y="1447920"/>
            <a:chExt cx="2819160" cy="4814280"/>
          </a:xfrm>
        </p:grpSpPr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457200" y="1447920"/>
              <a:ext cx="2819160" cy="44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33160" y="58024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99cc"/>
                  </a:solidFill>
                  <a:latin typeface="Times New Roman"/>
                  <a:ea typeface="楷体_GB2312"/>
                </a:rPr>
                <a:t>葛洲坝大江截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905120" y="304920"/>
            <a:ext cx="53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改革开放——强国之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66360" y="533520"/>
            <a:ext cx="12776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 家 重 点 工 程 建 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990160" y="838080"/>
            <a:ext cx="2496240" cy="5257800"/>
            <a:chOff x="2990160" y="838080"/>
            <a:chExt cx="2496240" cy="5257800"/>
          </a:xfrm>
        </p:grpSpPr>
        <p:grpSp>
          <p:nvGrpSpPr>
            <p:cNvPr id="214" name=""/>
            <p:cNvGrpSpPr/>
            <p:nvPr/>
          </p:nvGrpSpPr>
          <p:grpSpPr>
            <a:xfrm>
              <a:off x="2990160" y="1066680"/>
              <a:ext cx="2399400" cy="5029200"/>
              <a:chOff x="2990160" y="1066680"/>
              <a:chExt cx="2399400" cy="50292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2990160" y="1066680"/>
                <a:ext cx="2399400" cy="5029200"/>
                <a:chOff x="2990160" y="1066680"/>
                <a:chExt cx="2399400" cy="5029200"/>
              </a:xfrm>
            </p:grpSpPr>
            <p:pic>
              <p:nvPicPr>
                <p:cNvPr id="21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49760" y="1066680"/>
                  <a:ext cx="1639800" cy="502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7" name=""/>
                <p:cNvSpPr/>
                <p:nvPr/>
              </p:nvSpPr>
              <p:spPr>
                <a:xfrm>
                  <a:off x="2990160" y="3429000"/>
                  <a:ext cx="91188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c2e9a5"/>
                      </a:solidFill>
                      <a:latin typeface="Times New Roman"/>
                    </a:rPr>
                    <a:t>小浪底水库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4495680" y="1219320"/>
                <a:ext cx="54936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4574520" y="838080"/>
              <a:ext cx="9118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三峡工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04920" y="5943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会主义新农村的典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江苏省华阴市华西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60958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62120" y="22860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中国用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年甚至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年的改革时间走过了发达国家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年走过的路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91440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</a:rPr>
              <a:t>提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66680" y="22096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800" y="1752480"/>
            <a:ext cx="822960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（二）让我们一起感受世界进步的声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66680" y="1600200"/>
            <a:ext cx="6553440" cy="36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中华的高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放眼世界，科技进步日新月异，综合国力竞争日趋激烈，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形势逼人，不进则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28954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中国在新一轮国际竞争中准备好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04920" y="1828800"/>
            <a:ext cx="83818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（三）我们一起感知我国的国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材料：（据我国第五次人口普查统计结果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11280" y="762120"/>
            <a:ext cx="7776720" cy="3123720"/>
            <a:chOff x="611280" y="762120"/>
            <a:chExt cx="7776720" cy="3123720"/>
          </a:xfrm>
        </p:grpSpPr>
        <p:grpSp>
          <p:nvGrpSpPr>
            <p:cNvPr id="232" name=""/>
            <p:cNvGrpSpPr/>
            <p:nvPr/>
          </p:nvGrpSpPr>
          <p:grpSpPr>
            <a:xfrm>
              <a:off x="617760" y="768240"/>
              <a:ext cx="7761960" cy="3110400"/>
              <a:chOff x="617760" y="768240"/>
              <a:chExt cx="7761960" cy="311040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617760" y="768240"/>
                <a:ext cx="1464840" cy="1990440"/>
                <a:chOff x="617760" y="768240"/>
                <a:chExt cx="1464840" cy="19904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17480" y="768240"/>
                  <a:ext cx="1265760" cy="199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</a:rPr>
                    <a:t>每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1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</a:rPr>
                    <a:t>万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</a:rPr>
                    <a:t>人口中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7760" y="768240"/>
                  <a:ext cx="1464840" cy="199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082960" y="768240"/>
                <a:ext cx="1532520" cy="1119240"/>
                <a:chOff x="2082960" y="768240"/>
                <a:chExt cx="1532520" cy="11192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182680" y="768240"/>
                  <a:ext cx="1333080" cy="111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</a:rPr>
                    <a:t>大学程度者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082960" y="768240"/>
                  <a:ext cx="1532520" cy="111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615840" y="768240"/>
                <a:ext cx="1531800" cy="1119240"/>
                <a:chOff x="3615840" y="768240"/>
                <a:chExt cx="1531800" cy="11192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714840" y="768240"/>
                  <a:ext cx="1333080" cy="111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</a:rPr>
                    <a:t>高中程度者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615840" y="768240"/>
                  <a:ext cx="1531800" cy="111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148360" y="768240"/>
                <a:ext cx="1531800" cy="1119240"/>
                <a:chOff x="5148360" y="768240"/>
                <a:chExt cx="1531800" cy="11192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247360" y="768240"/>
                  <a:ext cx="1333080" cy="111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</a:rPr>
                    <a:t>初中程度者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148360" y="768240"/>
                  <a:ext cx="1531800" cy="111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680880" y="768240"/>
                <a:ext cx="1698840" cy="1119240"/>
                <a:chOff x="6680880" y="768240"/>
                <a:chExt cx="1698840" cy="11192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780600" y="768240"/>
                  <a:ext cx="1499400" cy="111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</a:rPr>
                    <a:t>小学程度者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680880" y="768240"/>
                  <a:ext cx="1698840" cy="111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2082960" y="1887840"/>
                <a:ext cx="1532520" cy="870480"/>
                <a:chOff x="2082960" y="1887840"/>
                <a:chExt cx="1532520" cy="8704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182680" y="1887840"/>
                  <a:ext cx="1333080" cy="8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352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082960" y="1887840"/>
                  <a:ext cx="1532520" cy="87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3615840" y="1887840"/>
                <a:ext cx="1531800" cy="870480"/>
                <a:chOff x="3615840" y="1887840"/>
                <a:chExt cx="1531800" cy="8704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714840" y="1887840"/>
                  <a:ext cx="1333080" cy="8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1089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615840" y="1887840"/>
                  <a:ext cx="1531800" cy="87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148360" y="1887840"/>
                <a:ext cx="1531800" cy="870480"/>
                <a:chOff x="5148360" y="1887840"/>
                <a:chExt cx="1531800" cy="8704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247360" y="1887840"/>
                  <a:ext cx="1333080" cy="8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3318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148360" y="1887840"/>
                  <a:ext cx="1531800" cy="87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680880" y="1887840"/>
                <a:ext cx="1698840" cy="870480"/>
                <a:chOff x="6680880" y="1887840"/>
                <a:chExt cx="1698840" cy="870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780600" y="1887840"/>
                  <a:ext cx="1499400" cy="8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3488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680880" y="1887840"/>
                  <a:ext cx="1698840" cy="87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17760" y="2759040"/>
                <a:ext cx="1464840" cy="1119600"/>
                <a:chOff x="617760" y="2759040"/>
                <a:chExt cx="1464840" cy="11196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717480" y="2759040"/>
                  <a:ext cx="1265760" cy="111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</a:rPr>
                    <a:t>所占百分比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17760" y="2759040"/>
                  <a:ext cx="1464840" cy="111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082960" y="2759040"/>
                <a:ext cx="1532520" cy="1119600"/>
                <a:chOff x="2082960" y="2759040"/>
                <a:chExt cx="1532520" cy="11196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182680" y="2759040"/>
                  <a:ext cx="1333080" cy="111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3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</a:rPr>
                    <a:t>．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53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082960" y="2759040"/>
                  <a:ext cx="1532520" cy="111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615840" y="2759040"/>
                <a:ext cx="1531800" cy="1119600"/>
                <a:chOff x="3615840" y="2759040"/>
                <a:chExt cx="1531800" cy="11196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714840" y="2759040"/>
                  <a:ext cx="1333080" cy="111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1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</a:rPr>
                    <a:t>．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89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615840" y="2759040"/>
                  <a:ext cx="1531800" cy="111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148360" y="2759040"/>
                <a:ext cx="1531800" cy="1119600"/>
                <a:chOff x="5148360" y="2759040"/>
                <a:chExt cx="1531800" cy="11196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47360" y="2759040"/>
                  <a:ext cx="1333080" cy="111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33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</a:rPr>
                    <a:t>．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2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148360" y="2759040"/>
                  <a:ext cx="1531800" cy="111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680880" y="2759040"/>
                <a:ext cx="1698840" cy="1119600"/>
                <a:chOff x="6680880" y="2759040"/>
                <a:chExt cx="1698840" cy="11196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780600" y="2759040"/>
                  <a:ext cx="1499400" cy="111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34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宋体"/>
                    </a:rPr>
                    <a:t>．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Arial Unicode MS"/>
                    </a:rPr>
                    <a:t>89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680880" y="2759040"/>
                  <a:ext cx="1698840" cy="111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"/>
            <p:cNvSpPr/>
            <p:nvPr/>
          </p:nvSpPr>
          <p:spPr>
            <a:xfrm>
              <a:off x="611280" y="762120"/>
              <a:ext cx="7776720" cy="3123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09600" y="3919680"/>
            <a:ext cx="8510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据统计：全国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15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岁以上的人口中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文盲和半文盲约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6.5%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，我国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万人口中的科学家和工程师的人数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是美国的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1/15,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日本的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1/60.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据统计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136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个国家中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每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人中的大学生数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我国排第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135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位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373040" y="2590920"/>
            <a:ext cx="59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1828800"/>
            <a:ext cx="800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0" y="1052640"/>
          <a:ext cx="9144000" cy="5408640"/>
        </p:xfrm>
        <a:graphic>
          <a:graphicData uri="http://schemas.openxmlformats.org/drawingml/2006/table">
            <a:tbl>
              <a:tblPr/>
              <a:tblGrid>
                <a:gridCol w="1908000"/>
                <a:gridCol w="1872000"/>
                <a:gridCol w="1296720"/>
                <a:gridCol w="2159280"/>
                <a:gridCol w="1908000"/>
              </a:tblGrid>
              <a:tr h="11826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总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世界排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人均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世界排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26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国内生产总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10.168</a:t>
                      </a: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万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1012</a:t>
                      </a: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26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粮食产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4900</a:t>
                      </a: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亿公斤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400</a:t>
                      </a: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公斤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钢铁产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亿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833</a:t>
                      </a: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公斤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以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644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煤产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12.4</a:t>
                      </a: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亿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10333</a:t>
                      </a:r>
                      <a:r>
                        <a:rPr b="1" lang="zh-CN" sz="3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公斤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</a:t>
                      </a: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1316160" y="290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00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我国经济发展部分指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295280" y="1905120"/>
            <a:ext cx="6400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华文新魏"/>
              </a:rPr>
              <a:t>思考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我们国家发达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381880" y="2666880"/>
            <a:ext cx="152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Arial"/>
              </a:rPr>
              <a:t>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爱国主义是民族精神的核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爱国不应只停留在口头上，要有实际行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好好做人、认真做事、努力学习，做一个对民族对国家有用的人</a:t>
            </a: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下兴亡  匹夫有责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顾炎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2362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天下之忧而忧  后天下之乐而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范仲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4419720"/>
            <a:ext cx="3216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350532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少年智则国智，少年富则国富，少年强则国强，少年独立则国独立，少年自由则国自由，少年进步则国进步，少年胜于欧洲，则国胜于欧洲，少年雄于地球，则国雄于地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-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梁启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4572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名   言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09480" y="457200"/>
            <a:ext cx="6172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迎接社会新挑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219320"/>
            <a:ext cx="5257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世纪，新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11280" y="2060640"/>
            <a:ext cx="2133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3886200"/>
            <a:ext cx="7772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个更加注重开发人类自身的资源、潜力与价值的时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895480"/>
            <a:ext cx="4648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终身学习时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81480" y="3962520"/>
            <a:ext cx="3810240" cy="2666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3962160" cy="2666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52280" y="1371600"/>
            <a:ext cx="312444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32767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四   大   发   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609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国古代科技文化独领风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80880" y="6858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新魏"/>
              </a:rPr>
              <a:t>联合国教科文组织指出“未来社会的文盲不再是不识字的人，而是不会学习的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1371600"/>
            <a:ext cx="58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362320" y="2057400"/>
          <a:ext cx="5943600" cy="4268880"/>
        </p:xfrm>
        <a:graphic>
          <a:graphicData uri="http://schemas.openxmlformats.org/drawingml/2006/table">
            <a:tbl>
              <a:tblPr/>
              <a:tblGrid>
                <a:gridCol w="2479680"/>
                <a:gridCol w="346392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世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--9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世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-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世纪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代以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-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世纪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代以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--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世纪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代以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--  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598680" y="2514600"/>
            <a:ext cx="12776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知识更新的周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990720" y="1752480"/>
            <a:ext cx="7010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活到老   学到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09480" y="1295280"/>
            <a:ext cx="78487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我们需要文化，就像需要空气一样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——</a:t>
            </a: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加里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我国古代的四大发明，在人类科学文化史上留下了灿烂的一页。这些伟大的发明曾经影响并造福于全世界，推动了人类历史的前进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533520"/>
            <a:ext cx="87631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古代的数学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十分发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天文历法的应用为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世界罕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的蚕丝品长期令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西方人羡慕不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的瓷器在中世纪的西方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比黄金还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的铁器的产品和质量令西方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望尘莫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的医药学为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世界瞩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的农学著作发表之早、数量之多为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世界之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古代建筑技术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十分发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的唐诗、宋词、元曲何明清小说在世界文学史上占有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重要地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286000" y="1905120"/>
            <a:ext cx="5029200" cy="30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中华的力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28800" y="8380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现千年梦想的神五、神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62720" y="2057400"/>
            <a:ext cx="3581280" cy="4057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4286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7:57:22Z</dcterms:modified>
  <cp:revision>57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